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8298-C7FF-4781-AB11-60E87F016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5C38-3EC5-4108-8410-E1C0833C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335B-F53D-4048-8328-E2C97516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8ED4-75C8-4792-9482-EB5D2A3D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3712-9962-4AAA-BA4D-C0943CF0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6F51-A4B9-4F5F-BE7B-02E2DEAA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7004-ECFD-458A-920C-1933FB6F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980A-9374-400A-8700-C026BE7A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DB35-3E17-4946-936C-0EC510CE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585B-C099-4DBF-8F6E-C09C989D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35BA-70A9-4726-888F-6C82C85B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A4C2-1533-48CA-B5D2-952CFDC3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358C-1C89-4CD0-9129-CC50B751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A61C-B007-435D-999C-159CAD2F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7199-37D4-43F7-B5EB-84AFBE70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5E4F-3179-44EC-B62C-5B29178BB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12201-ECAC-47AA-8DB8-97FA3340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8E71-D9FA-4C3A-8343-7CDED12A1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05C9-0E4E-43F5-A4CF-887B2801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3BCC-8724-423E-874B-CB7EAB2F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BA84-07C2-4B45-A1AB-B37B9603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6961-F140-4A33-8A4E-D1E34FB5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6F38-1B75-4E6E-B081-9ED4D6E9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1F13-D433-4507-B134-B4E04AF0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00F9-AD93-4D2F-A66C-412FD8D3E9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188E-82E5-4B24-A28B-BE920C66078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01120" cy="9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b7"/>
                </a:solidFill>
                <a:latin typeface="Arial Black"/>
              </a:rPr>
              <a:t>Тема: «Обеспечение и защита прав несовершеннолетних» </a:t>
            </a:r>
            <a:br>
              <a:rPr sz="5400"/>
            </a:br>
            <a:r>
              <a:rPr b="0" lang="ru-RU" sz="1800" spc="-1" strike="noStrike">
                <a:solidFill>
                  <a:srgbClr val="ffffb7"/>
                </a:solidFill>
                <a:latin typeface="Arial Black"/>
              </a:rPr>
              <a:t>социальный педагог МБОУ СОШ № 3 В.А. Евтушенко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8360" y="1989000"/>
            <a:ext cx="8136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7"/>
                </a:solidFill>
                <a:latin typeface="Arial Black"/>
              </a:rPr>
              <a:t>Работа по охране прав детства и здоровья учащихся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составление социального паспорта школы, списков: неблагополучных семей, опекаемых, детей из многодетных и остронуждающихся семей, «группы риска», уч-ся, состоящих на учёте в ПДН и ВШ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осуществление рейдов и посещений в такие семьи, совместно, инспектором ПДН (составление протоколов), специалистами КДН и ЗП. В ходе рейдов сотрудником предлагается юридическая, психологическая и социальная помощ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оформление актов обследований условий воспитания и проживания детей, характеристик, представлений, служебных писем, запросов, ходатайст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осуществление здоровьесберегающих мероприятий (лекции, слайдовые программы, просмотры фильмов, выступление врачей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67564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Работа с семьями воспитанник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557000"/>
            <a:ext cx="80074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ение условий воспитания в семь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проведение разъяснительной и просветительской работы по вопросам воспитания, правовым вопросам среди родителей: общешкольные родительские собрания, консультации со специалиста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принятие конкретных мер по обеспечению полноценного развития и воспитания детей родителями или лицами их заменяющи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уществление социально-диспетчерской дея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оформление документов в различные инстанции для оказания разносторонней помощи детям и их семьям: АКТы обследований, представления в КДН и ЗП, характеристики, служебные письма, запросы и тп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привлечение к решению проблем других служб и специалисто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50004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Схема взаимодействия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57160" y="2928600"/>
            <a:ext cx="74296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О                                          ОДМ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КДН и ЗП                          ОПДН                                              УЦЗН                                     УСЗ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бщешкольный родительский комитет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904760"/>
            <a:ext cx="8666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К осуществляет свою деятельность по трём направления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учебный секто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сектор, осуществляющий помощь в В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сектор по работе с трудными подростками и семьями, вызывающими тревогу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Работа ОР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одители входящие в состав данного сектора совместно с социальным педагогом и классными руководителями осуществляют посещение семей, рейды  с представителями  инспекции ПДН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ставители ОРК входят в состав КЗПД (комиссии по защите прав детства) проводимых в шко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имают участие в работе малых педсоветов и родительских комите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Основные причины роста числа неблагополучных семей и обучающихся, состоящих на учете: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075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лая эффективность законодательной базы, оставляющей безнаказанными  родителей за злоупотребление спиртными напитками, уклонение от воспитания и ненадлежащее воспитание ребенка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сутствие единых требований школы и родителей в воспитании детей (нежелание некоторых родителей поддерживать требования педагогов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трата нравственных ориентиров во многих семьях, чему во многом способствуют С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циально-низкий уровень дохода семьи (низкая заработная плата, либо ее отсутствие, неполные семьи, алкоголизм родителей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j0300840"/>
          <p:cNvPicPr/>
          <p:nvPr/>
        </p:nvPicPr>
        <p:blipFill>
          <a:blip r:embed="rId1"/>
          <a:stretch/>
        </p:blipFill>
        <p:spPr>
          <a:xfrm>
            <a:off x="5219640" y="3213000"/>
            <a:ext cx="30974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конодательная баз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ституция РФ, «Всеобщая декларация прав человека», «Конвенция ООН  о правах ребёнка», «Гражданский кодекс РФ», «Кодекс о браке и семье РФ», «Кодекс административных правонарушений», «Уголовно-процессуальный кодекс РФ», «Семейный кодекс РФ», Закон РФ «Об образовани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Работа, направленная на предупреждение правонарушений и безнадзорности, ведется согласно Федеральному Закону № 120 с учетом социальных групп: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3640" y="2276640"/>
            <a:ext cx="828972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ти, находящиеся под опеко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ащиеся «группы риска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ащиеся, состоящие на ВШУ и учете в ПДН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ащиеся из неблагополучных сем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ащиеся из многодетных/малообеспеченных семе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ти инвали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j0300840"/>
          <p:cNvPicPr/>
          <p:nvPr/>
        </p:nvPicPr>
        <p:blipFill>
          <a:blip r:embed="rId1"/>
          <a:stretch/>
        </p:blipFill>
        <p:spPr>
          <a:xfrm>
            <a:off x="2771640" y="4581360"/>
            <a:ext cx="32403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новные цели социальной работы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773000"/>
            <a:ext cx="800748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1.Увеличение степени самостоятельности обучающихся и родителей их способности контролировать свою жизнь и эффективно разрешать возникающие проблемы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2. Создание условий, в которых ребята и их родители могут в максимальной мере проявить свои возможности и получить всё, что им положено по закону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3. Создание условий, при которых человек, несмотря на душевный срыв или жизненный кризис, может жить, сохраняя чувство собственного достоинства и уважения к себе со стороны окружающих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4. Достижения такого результата, когда необходимость в помощи социального педагога и др. служб у ученика и родителей «отпадёт»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чи: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азание социально-правовой помощи подросткам и их родителя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связей детей и родителей с теми системами: социальными институтами, социумом, которые могут обеспечить решение этих пробл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явление причин социальной дезадаптации детей и подрост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иск средств и способов их устран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охраны и защиты прав и законных интересов несовершеннолетн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нняя профилактика и коррекц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 Black"/>
              </a:rPr>
              <a:t>Направления деятельности социальных педагогов в учреждениях здравоохранения: 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- средовая и социально- психологическая реабилитац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бота с семьями детей и подрост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ессиональная ориентац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ганизационная, учебно- методическая и просветительская работа с ближайшим социальным окружением детей и подростк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циально- правовое консультирование и информиров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280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Основные направления деятельности социального педагога: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светительская деятельно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социальной среды ребенка, семь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ение адресной социально-педагогической помощи семь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коррекционной программы, совместно с психологом, зам. директором по ВР и другими специалист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Основные формы профилактической работы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6000" y="2133360"/>
            <a:ext cx="7416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ультации для обучающихся, преподавателей, родителей; организация психологических, медицинских и др. обследований, составление программ и выработка рекомендаций по индивидуальной работе со школьниками, индивидуальные собеседования с родителями, детьми и учителями, КЗПД, малые педсоветы,  вовлечение детей и подростков в различные формы внеклассной и внешкольной воспитательной деятельности, контроль занятости в УД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6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7"/>
                </a:solidFill>
                <a:latin typeface="Arial Black"/>
              </a:rPr>
              <a:t>Контроль успеваемости и посещаемос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дивидуальные беседы с деть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росмотр классных журнал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ежедневный контроль посещения и поведения на уроках через дневник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посещение уроков в классах, где возникли проблем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консультации с коллегами (психологом, классными руководителями, учителями-предметниками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комиссии по защите прав детства в школ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6T01:51:59Z</dcterms:created>
  <dc:creator>1</dc:creator>
  <dc:description/>
  <dc:language>en-US</dc:language>
  <cp:lastModifiedBy>Бардик</cp:lastModifiedBy>
  <dcterms:modified xsi:type="dcterms:W3CDTF">2014-01-27T07:05:08Z</dcterms:modified>
  <cp:revision>57</cp:revision>
  <dc:subject/>
  <dc:title>Анализ работы социального педагога за 2008-2009 учебный год</dc:title>
</cp:coreProperties>
</file>